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1CFC-8C2C-443E-BC8C-B4667899A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FE0A-D876-4AA8-8DF4-3CD7C351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308E-E8DE-48E3-B359-851F95415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C5E7-724C-4EA4-9254-D234DC743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74B2-0A26-4101-A78A-EC8D549ED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AC92-358C-44BF-B549-E25715277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BBAE-DA4E-4529-937E-0B036A23D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D8C8-043E-468E-8146-7095CEEBE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5724-B789-4344-BFE8-46A93D330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39E5-28B3-4313-86E9-3CED3DBB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8020-6F57-43F3-9FDF-921FC29F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01AB-DFF0-4E8D-B137-1A02C08A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1927E-CEFA-4D20-B060-FFE6B67D87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17607cca5970t"/>
          <p:cNvPicPr/>
          <p:nvPr/>
        </p:nvPicPr>
        <p:blipFill>
          <a:blip r:embed="rId1"/>
          <a:stretch/>
        </p:blipFill>
        <p:spPr>
          <a:xfrm>
            <a:off x="0" y="-171360"/>
            <a:ext cx="9448920" cy="75391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. Как вы думаете, почему химические волокна получили такое название?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. Почему возникла необходимость в получении химических волокон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1402264575-oboi-1920h1080"/>
          <p:cNvPicPr/>
          <p:nvPr/>
        </p:nvPicPr>
        <p:blipFill>
          <a:blip r:embed="rId1"/>
          <a:stretch/>
        </p:blipFill>
        <p:spPr>
          <a:xfrm>
            <a:off x="-812880" y="-304920"/>
            <a:ext cx="107650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1374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 нашего пох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547640" y="2689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Дать представление о видах химических волок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Раскрыть классификацию химических волокон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Познакомится  с технологией производства искусственных волок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Научится определять вид волокна по внешним призна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914400" y="7430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5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тема урока </a:t>
            </a: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«Виды и свойства химических волокон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2880" y="0"/>
            <a:ext cx="8353440" cy="8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ификация химических волок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-11160" y="1049400"/>
            <a:ext cx="88711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motto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800" y="246240"/>
            <a:ext cx="97851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дная таблиц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всем исследованным тканя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-4680" y="1390680"/>
          <a:ext cx="9753480" cy="6405480"/>
        </p:xfrm>
        <a:graphic>
          <a:graphicData uri="http://schemas.openxmlformats.org/drawingml/2006/table">
            <a:tbl>
              <a:tblPr/>
              <a:tblGrid>
                <a:gridCol w="474480"/>
                <a:gridCol w="2586240"/>
                <a:gridCol w="1577880"/>
                <a:gridCol w="152280"/>
                <a:gridCol w="1403640"/>
                <a:gridCol w="1779480"/>
                <a:gridCol w="1779480"/>
              </a:tblGrid>
              <a:tr h="70020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Характерные признаки определения ткан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5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Показатели признаков тканей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скоз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це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пр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тр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60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лес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к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о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о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99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ость поверхнос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ероховат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92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ст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93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инаем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ль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0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ыпаем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чень 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062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ность в мокром состоян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52" name="Rectangle 4"/>
          <p:cNvSpPr/>
          <p:nvPr/>
        </p:nvSpPr>
        <p:spPr>
          <a:xfrm>
            <a:off x="11160" y="623520"/>
            <a:ext cx="147351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знаки определения искусственных и синтетических тканей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900000" y="1197000"/>
            <a:ext cx="77868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чему в гардеробе современного человека очень трудно найти вещь, изготовленную из натурального волокн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539640" y="6086520"/>
            <a:ext cx="1843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kartinkijan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машнее зада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"/>
          <p:cNvSpPr/>
          <p:nvPr/>
        </p:nvSpPr>
        <p:spPr>
          <a:xfrm>
            <a:off x="539640" y="2276640"/>
            <a:ext cx="8158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рисовать эскиз модели швейного изделия из химических ткан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1T14:50:12Z</dcterms:created>
  <dc:creator>Пользователь</dc:creator>
  <dc:description/>
  <dc:language>en-US</dc:language>
  <cp:lastModifiedBy>Пользователь</cp:lastModifiedBy>
  <dcterms:modified xsi:type="dcterms:W3CDTF">2018-09-28T07:15:26Z</dcterms:modified>
  <cp:revision>6</cp:revision>
  <dc:subject/>
  <dc:title>Слайд 1</dc:title>
</cp:coreProperties>
</file>